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44EC-6BAC-4177-9EE5-BDEF4CC9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EBF4-9C42-4F60-9DB2-E3295AA5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F5DE-C381-480F-92AD-DABC46F89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E490-EABC-4778-BAEA-C8D8B2FD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DE02-C450-4FFE-B94D-2FBFA3C4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65E5-4E71-4C23-A351-512AA19B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9EAE-D949-4321-8245-89B142BD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AC70-C07D-4DB7-9B70-8775C624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5BA8-2BE0-48E2-A3CB-860871AA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D310-9521-4934-9A3E-6889F69D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3CB3-CEFC-492D-BB6F-FBFA9DE5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BE39-D0C5-4602-996A-8A6B7DE8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DC39-B758-415B-AC6D-07F7A36A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A237-9FE1-4D55-941A-46349EAA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149B-E989-4711-8654-DD4534FD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91AC-9ABC-46BA-B81D-141E966C2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A602-56C0-4469-8A15-AC98C415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DE5E-3C30-4AF9-89A6-4F1564FB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2ACE-B118-4F39-857A-51C027330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C7C7-4C4F-4064-A391-43B879DA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1C40-53B2-4912-A39B-F8015F6B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B806-4B47-48B4-9DD4-8C88C634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C8D4-65A1-4D58-BBE5-FFDB6BF3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C8A5-F525-47C0-97A7-BB910F35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9851-77E4-4BB3-A952-D6AEE4F9E369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62CC-15CE-4394-9E21-56D6FA5B4E2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58BA-6E93-4270-AD70-37D87600CC1D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963D-50EE-45A5-9AF9-47D42256EDA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551C-0703-4221-BF99-3566A73FDE7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63280" y="2781000"/>
            <a:ext cx="738036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个性与消费者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自我概念与消费者行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生活方式与消费者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79280" y="765000"/>
            <a:ext cx="896472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黑体"/>
                <a:ea typeface="黑体"/>
              </a:rPr>
              <a:t>第四章 消费者的个性、自我概念与生活方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1702-CCB8-4536-BA2B-7284FB08173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自我概念的理论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矩形 7"/>
          <p:cNvSpPr/>
          <p:nvPr/>
        </p:nvSpPr>
        <p:spPr>
          <a:xfrm>
            <a:off x="539640" y="1052640"/>
            <a:ext cx="7848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形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品形象一致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2" name="组合 351"/>
          <p:cNvGrpSpPr/>
          <p:nvPr/>
        </p:nvGrpSpPr>
        <p:grpSpPr>
          <a:xfrm>
            <a:off x="611280" y="2276640"/>
            <a:ext cx="7345440" cy="3097080"/>
            <a:chOff x="611280" y="2276640"/>
            <a:chExt cx="7345440" cy="3097080"/>
          </a:xfrm>
        </p:grpSpPr>
        <p:sp>
          <p:nvSpPr>
            <p:cNvPr id="213" name="矩形 27"/>
            <p:cNvSpPr/>
            <p:nvPr/>
          </p:nvSpPr>
          <p:spPr>
            <a:xfrm>
              <a:off x="611280" y="2276640"/>
              <a:ext cx="7345440" cy="30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4" name="Group 313"/>
            <p:cNvGrpSpPr/>
            <p:nvPr/>
          </p:nvGrpSpPr>
          <p:grpSpPr>
            <a:xfrm>
              <a:off x="1830600" y="2276640"/>
              <a:ext cx="5003640" cy="2909160"/>
              <a:chOff x="1830600" y="2276640"/>
              <a:chExt cx="5003640" cy="2909160"/>
            </a:xfrm>
          </p:grpSpPr>
          <p:sp>
            <p:nvSpPr>
              <p:cNvPr id="215" name="Rectangle 314"/>
              <p:cNvSpPr/>
              <p:nvPr/>
            </p:nvSpPr>
            <p:spPr>
              <a:xfrm>
                <a:off x="3567960" y="4437000"/>
                <a:ext cx="141300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象征产品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Rectangle 315"/>
              <p:cNvSpPr/>
              <p:nvPr/>
            </p:nvSpPr>
            <p:spPr>
              <a:xfrm>
                <a:off x="3868920" y="2276640"/>
                <a:ext cx="81072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Rectangle 316"/>
              <p:cNvSpPr/>
              <p:nvPr/>
            </p:nvSpPr>
            <p:spPr>
              <a:xfrm>
                <a:off x="1830600" y="2535840"/>
                <a:ext cx="111168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自我概念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Rectangle 317"/>
              <p:cNvSpPr/>
              <p:nvPr/>
            </p:nvSpPr>
            <p:spPr>
              <a:xfrm>
                <a:off x="5606640" y="2535840"/>
                <a:ext cx="122760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参照群体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2340000" y="3284280"/>
                <a:ext cx="1227960" cy="1527120"/>
                <a:chOff x="2340000" y="3284280"/>
                <a:chExt cx="1227960" cy="1527120"/>
              </a:xfrm>
            </p:grpSpPr>
            <p:cxnSp>
              <p:nvCxnSpPr>
                <p:cNvPr id="220" name="AutoShape 318"/>
                <p:cNvCxnSpPr/>
                <p:nvPr/>
              </p:nvCxnSpPr>
              <p:spPr>
                <a:xfrm>
                  <a:off x="2340000" y="3284280"/>
                  <a:ext cx="1228320" cy="15274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1" name=""/>
                <p:cNvSpPr txBox="1"/>
                <p:nvPr/>
              </p:nvSpPr>
              <p:spPr>
                <a:xfrm rot="16200000">
                  <a:off x="2190240" y="3434040"/>
                  <a:ext cx="15267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2941920" y="2909880"/>
                <a:ext cx="2664360" cy="720"/>
                <a:chOff x="2941920" y="2909880"/>
                <a:chExt cx="2664360" cy="720"/>
              </a:xfrm>
            </p:grpSpPr>
            <p:cxnSp>
              <p:nvCxnSpPr>
                <p:cNvPr id="223" name="AutoShape 319"/>
                <p:cNvCxnSpPr/>
                <p:nvPr/>
              </p:nvCxnSpPr>
              <p:spPr>
                <a:xfrm flipH="1">
                  <a:off x="2941920" y="2909880"/>
                  <a:ext cx="266472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4" name=""/>
                <p:cNvSpPr txBox="1"/>
                <p:nvPr/>
              </p:nvSpPr>
              <p:spPr>
                <a:xfrm>
                  <a:off x="2942280" y="2909880"/>
                  <a:ext cx="266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4980600" y="3284280"/>
                <a:ext cx="1227960" cy="1527120"/>
                <a:chOff x="4980600" y="3284280"/>
                <a:chExt cx="1227960" cy="1527120"/>
              </a:xfrm>
            </p:grpSpPr>
            <p:cxnSp>
              <p:nvCxnSpPr>
                <p:cNvPr id="226" name="AutoShape 320"/>
                <p:cNvCxnSpPr/>
                <p:nvPr/>
              </p:nvCxnSpPr>
              <p:spPr>
                <a:xfrm flipH="1">
                  <a:off x="4980600" y="3284280"/>
                  <a:ext cx="1228320" cy="15274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7" name=""/>
                <p:cNvSpPr txBox="1"/>
                <p:nvPr/>
              </p:nvSpPr>
              <p:spPr>
                <a:xfrm rot="5400000">
                  <a:off x="4831200" y="3433680"/>
                  <a:ext cx="15267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28" name="Rectangle 321"/>
              <p:cNvSpPr/>
              <p:nvPr/>
            </p:nvSpPr>
            <p:spPr>
              <a:xfrm>
                <a:off x="2525400" y="4177800"/>
                <a:ext cx="83376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Rectangle 322"/>
              <p:cNvSpPr/>
              <p:nvPr/>
            </p:nvSpPr>
            <p:spPr>
              <a:xfrm>
                <a:off x="5189400" y="4177800"/>
                <a:ext cx="92664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30" name="Rectangle 39"/>
          <p:cNvSpPr/>
          <p:nvPr/>
        </p:nvSpPr>
        <p:spPr>
          <a:xfrm>
            <a:off x="1403280" y="5517360"/>
            <a:ext cx="60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象征产品在自我与他人之间的沟通作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BD63-7323-4A8B-8024-D964A3D7687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6560" y="142920"/>
            <a:ext cx="7216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自我概念的营销启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908000" y="1915920"/>
            <a:ext cx="67788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新产品开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0063-97AA-499F-BD8C-C27421A1E6D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四、自我概念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28280"/>
            <a:ext cx="86868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自我概念的常用工具是语义差别量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美国学者马赫塔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N. K. Malhotr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设计了一种既可以测量自我概念，又可以衡量产品形象的语义差别量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量表是由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双极形容词组成的一个语义区分量表。该量表可以获得消费者所期望的产品形象方面的信息，也可以了解消费者对现在产品的评价，从而找出产品形象改进的方向，更好地满足消费者需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4A95-3560-4C58-9205-26F8E498DFC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755640" y="38160"/>
            <a:ext cx="7056360" cy="681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A601-A714-4EEB-AAF2-D96E2EC3011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生活方式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619280" y="1719360"/>
            <a:ext cx="7067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生活方式的含义与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生活方式的测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生活方式的营销启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9199-C01B-45F8-9E8A-CBF109013DF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生活方式的含义与特征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3964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方式含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以活动、兴趣和观点的形式表现出来的在世界上的生活模式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菲利普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科特勒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方式的特点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Feldman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&amp; Thielbar, 197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是一种群体现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覆盖了生活的各个方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反映了一个人的核心生活利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在不同人口统计变量上表现出差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D27E-DCA2-4373-810D-3590B7ED106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生活方式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547280" y="1719360"/>
            <a:ext cx="7139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I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IC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na--Val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模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1007-E0C9-4BBB-8883-9B48017E1DA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I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1696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9280-4C1E-4444-AAE4-D8F20C3DF86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AL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61" name="Group 4"/>
          <p:cNvGrpSpPr/>
          <p:nvPr/>
        </p:nvGrpSpPr>
        <p:grpSpPr>
          <a:xfrm>
            <a:off x="539640" y="1628640"/>
            <a:ext cx="8342280" cy="4248360"/>
            <a:chOff x="539640" y="1628640"/>
            <a:chExt cx="8342280" cy="4248360"/>
          </a:xfrm>
        </p:grpSpPr>
        <p:sp>
          <p:nvSpPr>
            <p:cNvPr id="262" name="AutoShape 5"/>
            <p:cNvSpPr/>
            <p:nvPr/>
          </p:nvSpPr>
          <p:spPr>
            <a:xfrm>
              <a:off x="539640" y="1628640"/>
              <a:ext cx="8342280" cy="42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3" name="Group 6"/>
            <p:cNvGrpSpPr/>
            <p:nvPr/>
          </p:nvGrpSpPr>
          <p:grpSpPr>
            <a:xfrm>
              <a:off x="732600" y="2020680"/>
              <a:ext cx="7699680" cy="3587400"/>
              <a:chOff x="732600" y="2020680"/>
              <a:chExt cx="7699680" cy="3587400"/>
            </a:xfrm>
          </p:grpSpPr>
          <p:sp>
            <p:nvSpPr>
              <p:cNvPr id="264" name="Line 7"/>
              <p:cNvSpPr/>
              <p:nvPr/>
            </p:nvSpPr>
            <p:spPr>
              <a:xfrm>
                <a:off x="1392840" y="2020680"/>
                <a:ext cx="1080" cy="318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" name="Rectangle 8"/>
              <p:cNvSpPr/>
              <p:nvPr/>
            </p:nvSpPr>
            <p:spPr>
              <a:xfrm>
                <a:off x="2491200" y="2286000"/>
                <a:ext cx="131976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" name="Rectangle 9"/>
              <p:cNvSpPr/>
              <p:nvPr/>
            </p:nvSpPr>
            <p:spPr>
              <a:xfrm>
                <a:off x="4691520" y="2286000"/>
                <a:ext cx="132084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" name="Rectangle 10"/>
              <p:cNvSpPr/>
              <p:nvPr/>
            </p:nvSpPr>
            <p:spPr>
              <a:xfrm>
                <a:off x="6893640" y="2286000"/>
                <a:ext cx="132084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8" name="AutoShape 11"/>
              <p:cNvSpPr/>
              <p:nvPr/>
            </p:nvSpPr>
            <p:spPr>
              <a:xfrm>
                <a:off x="2272320" y="2152080"/>
                <a:ext cx="176004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思考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9" name="AutoShape 12"/>
              <p:cNvSpPr/>
              <p:nvPr/>
            </p:nvSpPr>
            <p:spPr>
              <a:xfrm>
                <a:off x="2272320" y="3083760"/>
                <a:ext cx="1760040" cy="119556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信奉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0" name="AutoShape 13"/>
              <p:cNvSpPr/>
              <p:nvPr/>
            </p:nvSpPr>
            <p:spPr>
              <a:xfrm>
                <a:off x="4376880" y="2500200"/>
                <a:ext cx="175860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成就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" name="AutoShape 14"/>
              <p:cNvSpPr/>
              <p:nvPr/>
            </p:nvSpPr>
            <p:spPr>
              <a:xfrm>
                <a:off x="4472640" y="3215520"/>
                <a:ext cx="175896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奋争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" name="AutoShape 15"/>
              <p:cNvSpPr/>
              <p:nvPr/>
            </p:nvSpPr>
            <p:spPr>
              <a:xfrm>
                <a:off x="4472640" y="4014360"/>
                <a:ext cx="1758960" cy="11948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求存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" name="AutoShape 16"/>
              <p:cNvSpPr/>
              <p:nvPr/>
            </p:nvSpPr>
            <p:spPr>
              <a:xfrm>
                <a:off x="6673320" y="2152080"/>
                <a:ext cx="1758960" cy="11977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体验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4" name="AutoShape 17"/>
              <p:cNvSpPr/>
              <p:nvPr/>
            </p:nvSpPr>
            <p:spPr>
              <a:xfrm>
                <a:off x="6673320" y="2950200"/>
                <a:ext cx="1758960" cy="11977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制造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5" name="Rectangle 18"/>
              <p:cNvSpPr/>
              <p:nvPr/>
            </p:nvSpPr>
            <p:spPr>
              <a:xfrm>
                <a:off x="1171440" y="5209200"/>
                <a:ext cx="66132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低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6" name="Rectangle 19"/>
              <p:cNvSpPr/>
              <p:nvPr/>
            </p:nvSpPr>
            <p:spPr>
              <a:xfrm>
                <a:off x="732600" y="2286000"/>
                <a:ext cx="660240" cy="278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资源丰富程度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7" name="Rectangle 20"/>
            <p:cNvSpPr/>
            <p:nvPr/>
          </p:nvSpPr>
          <p:spPr>
            <a:xfrm>
              <a:off x="2712960" y="5475960"/>
              <a:ext cx="109836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理想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Rectangle 21"/>
            <p:cNvSpPr/>
            <p:nvPr/>
          </p:nvSpPr>
          <p:spPr>
            <a:xfrm>
              <a:off x="4912560" y="5475960"/>
              <a:ext cx="109944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就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Rectangle 22"/>
            <p:cNvSpPr/>
            <p:nvPr/>
          </p:nvSpPr>
          <p:spPr>
            <a:xfrm>
              <a:off x="7112880" y="5475960"/>
              <a:ext cx="109944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我表达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AutoShape 23"/>
            <p:cNvSpPr/>
            <p:nvPr/>
          </p:nvSpPr>
          <p:spPr>
            <a:xfrm>
              <a:off x="4377600" y="1628640"/>
              <a:ext cx="1758600" cy="11977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创新者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03D5-B8A6-472B-BF0E-B39E1A0FA13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39640" y="1267920"/>
            <a:ext cx="81583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个人因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决策影响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产品变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468360" y="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-ICP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1332000" y="2997360"/>
            <a:ext cx="7488000" cy="3168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D630-F2D4-4367-8A3C-EB6C9D80286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个性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619280" y="1988640"/>
            <a:ext cx="70675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个性概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个性与消费者行为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E18B-52BB-4A8E-9AEE-E914474789A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79280" y="189000"/>
            <a:ext cx="75438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ina--Val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模型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7343640" cy="5545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A8FF-BDF6-425A-8BAA-B902E7B53D8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生活方式研究在消费者行为中的作用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692000" y="2708280"/>
            <a:ext cx="67784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市场细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品牌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广告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A8D5-3CDD-4D5F-8ADF-387767BBACE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个性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26920" y="1483920"/>
            <a:ext cx="78710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决定和反映个人如何适应环境的内在心理特征，包括使某一个体与其他个体相区别的具体特质、属性、特征、因素和态度等多个方面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Schiffman &amp; Kanuk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的特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差异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稳定性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塑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08A4-6D1C-490B-AD17-52B626C1A3A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个性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547640" y="1844640"/>
            <a:ext cx="73249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购买前的信息收集阶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商店的选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喜爱售货员的类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消费者的个性与品牌的选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3971-9CD1-40A1-84F0-834A2A5071B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个性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68" name="Group 325"/>
          <p:cNvGrpSpPr/>
          <p:nvPr/>
        </p:nvGrpSpPr>
        <p:grpSpPr>
          <a:xfrm>
            <a:off x="539640" y="1844640"/>
            <a:ext cx="8135640" cy="3673080"/>
            <a:chOff x="539640" y="1844640"/>
            <a:chExt cx="8135640" cy="3673080"/>
          </a:xfrm>
        </p:grpSpPr>
        <p:sp>
          <p:nvSpPr>
            <p:cNvPr id="169" name="Rectangle 326"/>
            <p:cNvSpPr/>
            <p:nvPr/>
          </p:nvSpPr>
          <p:spPr>
            <a:xfrm>
              <a:off x="3714840" y="1844640"/>
              <a:ext cx="218376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品牌个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Rectangle 327"/>
            <p:cNvSpPr/>
            <p:nvPr/>
          </p:nvSpPr>
          <p:spPr>
            <a:xfrm>
              <a:off x="539640" y="2890080"/>
              <a:ext cx="119052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Rectangle 328"/>
            <p:cNvSpPr/>
            <p:nvPr/>
          </p:nvSpPr>
          <p:spPr>
            <a:xfrm>
              <a:off x="2324880" y="2890080"/>
              <a:ext cx="118908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Rectangle 329"/>
            <p:cNvSpPr/>
            <p:nvPr/>
          </p:nvSpPr>
          <p:spPr>
            <a:xfrm>
              <a:off x="4111560" y="2890080"/>
              <a:ext cx="118800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能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Rectangle 330"/>
            <p:cNvSpPr/>
            <p:nvPr/>
          </p:nvSpPr>
          <p:spPr>
            <a:xfrm>
              <a:off x="5898600" y="2890080"/>
              <a:ext cx="118764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熟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Rectangle 331"/>
            <p:cNvSpPr/>
            <p:nvPr/>
          </p:nvSpPr>
          <p:spPr>
            <a:xfrm>
              <a:off x="7486200" y="2890080"/>
              <a:ext cx="118764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强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Rectangle 332"/>
            <p:cNvSpPr/>
            <p:nvPr/>
          </p:nvSpPr>
          <p:spPr>
            <a:xfrm>
              <a:off x="2123280" y="3935880"/>
              <a:ext cx="1583640" cy="158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勇敢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想象力丰富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时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Rectangle 333"/>
            <p:cNvSpPr/>
            <p:nvPr/>
          </p:nvSpPr>
          <p:spPr>
            <a:xfrm>
              <a:off x="539640" y="3935880"/>
              <a:ext cx="1188000" cy="149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务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欢乐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Rectangle 334"/>
            <p:cNvSpPr/>
            <p:nvPr/>
          </p:nvSpPr>
          <p:spPr>
            <a:xfrm>
              <a:off x="4111560" y="3935880"/>
              <a:ext cx="1188000" cy="134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智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可信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功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Rectangle 335"/>
            <p:cNvSpPr/>
            <p:nvPr/>
          </p:nvSpPr>
          <p:spPr>
            <a:xfrm>
              <a:off x="5897160" y="3935880"/>
              <a:ext cx="1190520" cy="122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迷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高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Rectangle 336"/>
            <p:cNvSpPr/>
            <p:nvPr/>
          </p:nvSpPr>
          <p:spPr>
            <a:xfrm>
              <a:off x="7486200" y="3935880"/>
              <a:ext cx="1189080" cy="114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坚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户外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180" name="AutoShape 337"/>
            <p:cNvCxnSpPr/>
            <p:nvPr/>
          </p:nvCxnSpPr>
          <p:spPr>
            <a:xfrm rot="5400000">
              <a:off x="4604760" y="-581760"/>
              <a:ext cx="1440" cy="694476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1" name="AutoShape 338"/>
            <p:cNvCxnSpPr/>
            <p:nvPr/>
          </p:nvCxnSpPr>
          <p:spPr>
            <a:xfrm flipH="1">
              <a:off x="1133280" y="3337560"/>
              <a:ext cx="180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AutoShape 339"/>
            <p:cNvCxnSpPr/>
            <p:nvPr/>
          </p:nvCxnSpPr>
          <p:spPr>
            <a:xfrm flipH="1">
              <a:off x="2918880" y="3338280"/>
              <a:ext cx="324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AutoShape 340"/>
            <p:cNvCxnSpPr/>
            <p:nvPr/>
          </p:nvCxnSpPr>
          <p:spPr>
            <a:xfrm flipH="1">
              <a:off x="4705560" y="3338280"/>
              <a:ext cx="468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AutoShape 341"/>
            <p:cNvCxnSpPr/>
            <p:nvPr/>
          </p:nvCxnSpPr>
          <p:spPr>
            <a:xfrm flipH="1">
              <a:off x="6493320" y="3338280"/>
              <a:ext cx="396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AutoShape 342"/>
            <p:cNvCxnSpPr/>
            <p:nvPr/>
          </p:nvCxnSpPr>
          <p:spPr>
            <a:xfrm flipH="1">
              <a:off x="8080920" y="3338280"/>
              <a:ext cx="396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AutoShape 343"/>
            <p:cNvCxnSpPr/>
            <p:nvPr/>
          </p:nvCxnSpPr>
          <p:spPr>
            <a:xfrm>
              <a:off x="2919240" y="2591280"/>
              <a:ext cx="1800" cy="29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AutoShape 344"/>
            <p:cNvCxnSpPr/>
            <p:nvPr/>
          </p:nvCxnSpPr>
          <p:spPr>
            <a:xfrm>
              <a:off x="6492960" y="2591280"/>
              <a:ext cx="3240" cy="29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8" name="Line 345"/>
            <p:cNvSpPr/>
            <p:nvPr/>
          </p:nvSpPr>
          <p:spPr>
            <a:xfrm>
              <a:off x="4706280" y="2292120"/>
              <a:ext cx="0" cy="59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2C48-7766-41BD-A91A-4FF5037BCE5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自我概念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050560" y="1928880"/>
            <a:ext cx="68216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自我概念概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自我概念的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自我概念的营销启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四、自我概念的测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9A82-1E89-43B6-8BE5-842CA561EE3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自我概念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23640" y="1413000"/>
            <a:ext cx="8569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概念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也称为自我形象，是指个人对自己的能力、气质、性格等个性特征的感知、态度和自我评价，即个体如何看待自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消费者的自我概念的形成过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自己的观察推断自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他人对自己的评价形成自我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社会比较形成自我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D9BD-428D-4368-B8FA-36F5376A80A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61508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自我概念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5280" y="1052640"/>
            <a:ext cx="8569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概念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830880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1DF4-3FB4-4054-9CF8-962511064E0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自我概念的理论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矩形 7"/>
          <p:cNvSpPr/>
          <p:nvPr/>
        </p:nvSpPr>
        <p:spPr>
          <a:xfrm>
            <a:off x="539640" y="1052640"/>
            <a:ext cx="784872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强化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概念对个体有价值，个体行为趋向于维护和强化自我概念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环境自我概念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在特定的环境下，希望他人如何看待自己。包括与自己相联系的态度、知觉和情感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形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品形象一致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包含形象意义的产品通常会激发包含同样形象的自我概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3:34:19Z</dcterms:created>
  <dc:creator>zhangbo</dc:creator>
  <dc:description/>
  <dc:language>en-US</dc:language>
  <cp:lastModifiedBy>Administrator</cp:lastModifiedBy>
  <dcterms:modified xsi:type="dcterms:W3CDTF">2015-09-02T09:41:47Z</dcterms:modified>
  <cp:revision>37</cp:revision>
  <dc:subject/>
  <dc:title>第三章 消费者的个性、自我概念与生活方式</dc:title>
</cp:coreProperties>
</file>